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E08-269F-4C4A-B6F9-234ACEF8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540-B275-4C05-9E24-61ED584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EE0-46D3-4D8D-8C2D-D16EE60A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104-6B28-411F-88FA-11A443E7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4CF-4D6F-4760-9487-75A5FB8B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FCF-A8D9-46DF-915E-1781793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AA1-0D86-4610-A85A-C54FBCD4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CA4-AC39-4296-934C-EAB45E39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9B8-E066-4459-BB58-FA4A9464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299-A1D0-4E9C-93D1-4FC1DC9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7A8-1223-48B7-9B3B-EA85E79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9AA-B1EC-4C36-AC47-CA869EFA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9F0F-C3FD-4A07-84D6-F5AF5C68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thevisualclassroom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6.3 Differentiation Techniqu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- Combining Differentiation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61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the Quotient Rule and the Power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465880" y="1989000"/>
          <a:ext cx="18777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5880" y="1989000"/>
                    <a:ext cx="18777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033640" y="2232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erivativ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8880" y="3429000"/>
          <a:ext cx="556740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429000"/>
                    <a:ext cx="556740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772320" y="298116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num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4520" y="3429000"/>
            <a:ext cx="17766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76720" y="3200040"/>
            <a:ext cx="0" cy="228600"/>
          </a:xfrm>
          <a:prstGeom prst="line">
            <a:avLst/>
          </a:prstGeom>
          <a:ln w="19080">
            <a:solidFill>
              <a:srgbClr val="66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3504960" cy="0"/>
          </a:xfrm>
          <a:prstGeom prst="line">
            <a:avLst/>
          </a:prstGeom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7520" y="4433760"/>
          <a:ext cx="375912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7520" y="4433760"/>
                    <a:ext cx="37591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28680" y="5586480"/>
          <a:ext cx="287172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28680" y="5586480"/>
                    <a:ext cx="28717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114880" y="4433760"/>
          <a:ext cx="269388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14880" y="4433760"/>
                    <a:ext cx="26938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09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 2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the Product Rule and the Power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193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erivativ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8960" y="12096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071800"/>
          <a:ext cx="52524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71800"/>
                    <a:ext cx="5252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00200" y="2224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4(3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900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815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0481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 3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mplex quo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8859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erivativ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4120" y="636480"/>
          <a:ext cx="18478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36480"/>
                    <a:ext cx="18478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43000" y="1752480"/>
          <a:ext cx="6885000" cy="10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68850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600200" y="2819520"/>
          <a:ext cx="512604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819520"/>
                    <a:ext cx="51260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698480" y="3962520"/>
          <a:ext cx="4321440" cy="10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8480" y="3962520"/>
                    <a:ext cx="43214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76520" y="5162400"/>
          <a:ext cx="2771640" cy="104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5162400"/>
                    <a:ext cx="277164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039080" y="28144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3760" y="399096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11:11Z</dcterms:created>
  <dc:creator>Peter Maher</dc:creator>
  <dc:description/>
  <dc:language>en-US</dc:language>
  <cp:lastModifiedBy>Peter Maher</cp:lastModifiedBy>
  <dcterms:modified xsi:type="dcterms:W3CDTF">2003-05-21T18:34:54Z</dcterms:modified>
  <cp:revision>16</cp:revision>
  <dc:subject/>
  <dc:title>Slide 1</dc:title>
</cp:coreProperties>
</file>